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A95D-008B-46B2-AF22-1515C1D6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8C42-7AA0-412A-9AEA-878071B5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22DD8-D195-4B07-A4C8-F5DAFD1B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D66FF-837B-404C-85E5-51E100C7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D8536-D768-4701-84E7-D2F1A0AA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F3BF2-74C9-46B4-A75B-7490361C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F85FD-EAFD-49E0-B420-83FF49FE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29125-E0FD-4C8A-AD9A-2F0B5BCA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86901-7B8A-41E8-B3DC-8EA7DAD6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2E027-B652-416E-83CD-B505798F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6A58E-6B09-4A37-A7CE-B77BA9C8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09C53-CE6B-4EB9-A484-8B499D3B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B219-23EB-4EAB-8E77-DB7B0CE6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420F5-E5A4-4727-9016-B8035681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D4C20-AB17-4CF8-8249-496C95CB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A437D-9E9A-483E-AA10-20DDA6D0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A3AAF-38A6-4D21-A19F-0C365ED1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EFBC6-4587-4D8F-8EB0-D604AE0E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81E8F-F9F7-4C38-A608-C2CCE9EC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80505-964E-4EAC-ADE4-8CAE183D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E6891-CE46-445C-AAA6-90C6C344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62B06-BF96-4D1C-88F2-911BAB21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C27BE-B84E-4682-8184-DBA8D3C0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DF17-0FE1-4454-A122-5D3118D6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B7EC6-E68A-4287-980E-60ECA29D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39613-15D4-4A6B-B76B-7DD2B03C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BF942-1059-48F1-AD67-AFB3C399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F2877-0924-4744-9D46-FB9AC133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7A930-37D2-4CFC-8B9E-5BB0FB21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8EDB7-4B78-400A-B363-5F3E3644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79BEB-7B15-4FE2-8186-F6CF55B5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4DD39-B29D-44AC-921B-E62B21AA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78FE2-D5E2-4A9C-AA00-3E07CB98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0304B-2420-4221-90CA-BB9433D1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000F-3F35-4365-916D-091B5852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98311-2FBC-4463-A06D-862447A9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B4F24-C460-4EEB-97DB-FB5323DE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7B4F0-3C3A-4BC1-B77F-87017CB9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2FCE5-3D9C-4D03-9424-4A8C925E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A9CF7-A43B-43E3-8124-596F7DD0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166FE-D0F8-4C3F-9443-AEC4F36E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F88DD-9548-4566-BAF1-B7D74124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69AB4-C4F6-490F-9794-D045DF0D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673AFF-FB8D-4766-9B1C-D7000F44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70966-6842-4E3E-B1A2-4AFFDFC4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92A2-0B94-4BA8-A855-39304291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14518-B737-4005-B872-3ADDD505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407C3-DBD6-4E38-9515-BD0EC46C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B13CD7-82F0-45CE-A4FF-53962F94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1F389-8AE0-481A-B0D0-F60ACEE8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3B00B-898B-4015-BC64-042B39D7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75AB90-44B5-4962-B8E6-AA1449DB2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FB9DB8-2C6A-4457-AC79-05F744D9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F35694-22D1-4EE3-886C-FF4F9930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33D311-6650-4740-8245-CE0C6DBD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32701A-D3D1-49C9-AF78-06BF810E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D339-D8A8-4672-B0EC-1663502F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A49B26-CDF2-412A-8F7C-B98DBB61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2F3AEB-FC01-4AFA-A52A-CFDF22C8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F1F728-B990-400D-A17F-10239F4B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0885E7-57E2-47C0-A137-2B898BAA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3779F9-000F-43C3-9855-446E83B5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685671-4D46-49A0-98E9-1802F4AB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203D01-2AFB-4886-A8F7-D4AB5B5A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2E2EE3D-E75F-4782-9119-153E7096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5883C12-47BA-46E9-8613-FA08C69A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7437A02-5722-4F19-BEF3-E659F3FC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8079-610E-4E80-9AA6-C3F18517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2EE502-324A-4A18-B989-69A1B4E2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B30D6D0-C002-41C0-B9CB-120F019C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64D12D7-6A1A-4925-AE08-86252915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CE57CDD-C615-4189-9E3F-5075D05A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DACB99D-8260-439E-A3E6-B3A72E52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5840B67-CF20-4B8A-8DF9-645FB3B4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E75183C-15EE-4FED-8663-44A47784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FDD1FD8-24A7-4712-BA1E-26350EA7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E873A87-B794-4445-A9A1-C956FCAB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89D78D-C070-43EE-8D5E-1760D1CA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083D-8279-4625-837B-D5EFDDB5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49184AD-DA8F-4A61-AE1F-64662C3F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5BF9443-01BC-47A2-A343-F1BE22D1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FCF28CC-554B-478A-9649-C4B58991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EED6797-D09B-491A-934F-7AC5C6FB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2F2513B-11A1-4DDE-8867-C944A4DF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A42CED6-57E0-486B-9287-1F94D5F6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4B06FE6-76C8-40E7-99A4-588ACCE9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0E77F54-5595-4096-98A8-B2E4A947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FE48CE-5A7E-4D8D-9C44-CC8C7997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458AB33-E9A2-4C6C-B95A-63F9033F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E347-6B82-4A3C-951F-B2AB4377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61544F3-54DC-403B-A56F-3748AD46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C3ECD06-D5DC-4409-8E85-B7575E1F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71C4641-9F9A-4F36-875C-D7F74565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970FD74-F661-4E76-92E6-21C2BA6E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769C3B5-C22F-4B56-83D8-A893A364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7209650-1736-411C-8A94-70B1FEF9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710855B-28A6-4770-AF7C-C0A32496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AAAC7C4-E581-49F6-AC76-3F1D0608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88E1C34-C67C-4C71-982D-46F5A653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11C2924-C677-4881-8CE1-35B3A641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A358-3613-46C2-88B2-589B31D5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E718CAA-ED3F-408D-A29C-38915BEC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6DAA388-9234-4BE6-88D4-4DA9C4B6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58D00B3-4700-4BA3-AB78-BE252A03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7F2F4A-6292-46A1-A346-BEB21B70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478964-9B39-4BC4-A43B-3ABAE2E0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64978A-3665-4E11-84B5-D51D7651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752ADA-94B9-4B2C-B592-025D2EA7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DB1ED4-65E4-49A0-AAD0-EDEA260F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E5ABA7-5054-4336-8931-ABB56F38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CB3F49-2259-4172-9D21-A521E0D8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88DB-F18D-4C37-8676-0995FE67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1C88-2015-4A0F-83DF-19914077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B55AEE-2DCC-4CA4-A2D2-B2BD4AC8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8C9CC2-BB06-4D7C-AADF-D24B5CBB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7F7392-CEBA-4F65-94D0-A9BB1257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BBD815-B777-4A4B-8A32-44C7721E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6E33FD-42CC-4CD8-AB6B-5B169034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24876FD-A059-44E9-BE0E-94FFC1B9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62AA38C-5D8B-43E0-9D6C-A6DC4C93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72F7472-253B-49B7-9397-14AB9EC9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114A5BE-97F2-4EEC-BA59-38A4DECA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5A0AF7D-F96D-4940-A3A5-88EEF8BD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562D-44C6-4D6F-B3F8-A51E1077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DF4CD47-65AF-4261-9A2B-1F523C67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EC54E6C-535E-45E3-8531-AF894D3A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FB4AA3A-18CC-40C5-AC83-96F1D0A2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67C5926-14D7-4748-8A97-7A2C4889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23FA04C-7D51-4DC6-B96B-7074567D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ED43368-E165-46D0-9597-674E7318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1ACD557-ED87-402B-8A7F-E5F3964D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108002-DFC1-4C39-BEA8-D94F7838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6DE6B3-35C8-4D89-B705-C8BBAEFC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DFE234-CCD1-4A02-92C1-D541E07D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F1E1-91F0-4EFF-BB54-51618472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A072D9-1515-4A17-94EC-6CB6E09C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062011-258A-482A-9B25-B113BF41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957CFD-C6F6-4624-9706-C28D11D1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455A84-F043-4335-8E80-3B16D70D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DF40F9-A15B-4E58-A60D-8BBA5A4D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5FF8B8-9258-47E0-AC8D-5DA91611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4B99A2-00EF-437B-A823-E26CA148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41DD41-8395-4E8C-AFAE-15CAD1C4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72C42E-FD0A-453D-9124-111BCD9C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6F6214-5A46-4C52-971E-44CC3F70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C5CA-3E46-493F-B520-793ABA81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DD50F4-AB0D-40DC-84F6-8E808C9D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916E7F-A5CB-4860-959D-D71576AB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2105A5-B180-403E-9A56-0469B884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B48D72-E4F0-4DAD-AA8C-75A4AF06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B4027F-6120-4F2D-A3DD-C4BDB8EF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FBCB98-82D3-4D1A-A4D3-547F4328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8282D8-92F4-4C3E-ACD5-CC882BA9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353BF5-851C-4E5A-A176-A8AB1101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ECDDD0-856D-4E28-A390-3914A4FB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83AB86-0EA0-4F98-9060-14D72A8C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AA13-292C-4797-B391-2D0D95A7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84C1B2-3ACC-468B-AB43-44BCC8634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2E3A71-1954-4E4C-BACD-E4CDF877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7BBDC9-CB3E-4AAE-B703-4B37DB94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573B8D-DB37-4E04-8D7D-F80A0ECB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7A0D39-B185-4C6D-B157-949A6294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28504A-2491-428F-9328-F9C8A6E4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F4E28A-0DC4-41BB-B186-7A059814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60E327-5ED9-45A3-AB14-9011A036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5571E1-B91B-4315-BCE4-8DD352B3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C3CE17-0986-404D-86CD-CF778164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1BBC1-A74E-4271-999D-369EDFB5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CE03DF-140D-46C0-82C1-3F57263A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1FF0B6-A625-4E98-9CFB-A11822A4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1E70F0-B52F-4429-A318-B1617819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BE6AD9-CDDD-4AC4-B1C0-26C99382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84B011-7AF6-4D66-BC20-AE708D08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772E79-8907-47F4-B580-3F38A183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AE6795-3AE2-4918-BC47-DBE96941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4E110E-3932-4945-8530-08060732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C255A8-4B2E-4425-B2A1-9844CE39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2512B0-4DF0-41CD-B8F9-06C29AA4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F2324-C6A7-45EC-A96D-0B7FED63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5BD9EB-0BEB-4E09-B5AF-ED38CBA0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11A79C-AF74-4930-8B46-76DF5B37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938E05-2827-472B-86F3-3ACAAA99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FEB63F-F5EB-4716-82B1-C8C230C6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D3B68F-A4DC-445A-97E8-1880E053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5479B6-BE5B-431C-B60F-79328629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8913A5-4CF3-4552-99DA-43CAF1A8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BB35E7-C92A-46D9-BC16-B1F10227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3642D4-AB90-4A0C-9534-B7973F4A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319CE8-F27C-49F6-A3FC-3E471F52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BAB2A-7A99-4F70-BA67-22FBED28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50F946-0A1F-4C78-96BD-123555DC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6ADEC7-9ACF-4A33-870A-AED6C0F1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7E21C1-CFA9-4BC4-AF50-D5430FAE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CDF99E-3A57-4CE5-BA31-17E7F4B2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27EF8B-E826-417A-B21E-8A6F1B4D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3C4409-D3DE-4A77-BFA6-63DC870A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11A5B1-EC1D-45AE-9512-4D36758E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66D2B4-9703-451D-8275-9ABFCF46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1C7120-EC26-4D0E-90E3-DE2EB323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63F160-263E-4B77-A575-759FA095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F3968-4B22-4241-A3D8-5A82CAA9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7A73D4-9998-4D67-914F-9D2D70EE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54F61A-9930-489A-BF62-ABDB0BF3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DB45C5-383E-4CAA-987A-7B768D3A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C212F6-CB14-4673-96C3-DFAB1C44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E2CE46-FE58-40CC-8343-A7EAC14B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7D4889-983A-4C57-B52E-65A6D4E5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E1E7D2-0838-4203-92F6-5683588C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801168-6485-42BC-9F21-6EDC7B01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22AF75-82AE-479F-881F-1818EA3A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477789-612C-4159-9013-6439F807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7E110-7A58-4596-8B41-875A4B5A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F9F4F7-3148-44B4-8C33-AD6E9229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9442D4-C8E5-47D8-A440-FE46D909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BE7C86-F524-4AED-B9B1-10000645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A681FF-639C-417A-AD13-51C9784B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A0A2AB-C0FE-46DE-841D-68B63AED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5F6B99-7232-4998-9951-91E60A62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59D5DD-3C9D-44CF-AA1D-1557EDBE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60DD2A-A448-43D4-881D-C28C7E18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6530AE-6208-4064-A114-8C8C1459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CBEFD9-C3D0-4727-82A4-CA7929CF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C612-359E-44ED-B2C7-8B20D2E6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3A4B3-4416-4023-AF11-79771F68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EB5463-0C31-4D99-9DDD-FDCE0F7F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ED6EE-8A34-4CD0-AF2C-5A1BEE93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6BFBA-5AE0-4CA9-978A-5E68AE97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81E1F-8EAB-4001-8029-C42127C3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F3223-9944-4CBC-8D48-3A199D10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4D4CB-99C8-4556-9E15-47D70C1C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EB65B-07E1-4A20-BDA4-C461DDA3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51F66-AB50-48DC-AF28-E6D127AB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D3FF6-0ED1-44F6-ABFE-80BD1BA6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1411F-E369-4379-8E36-51727791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65A1-74DE-4E4A-AE9C-3C014630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A530B-CDC1-4500-8641-D0577B41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B32D4-E309-48AD-9D11-234224A9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E719E-F1C2-4CA4-ABA6-865AD82B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E2519-6D29-443B-92B8-22676160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B7378-2FA6-4B56-8663-C41F74D7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4609C-3336-43CB-ABFD-D91C0F1A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966F9-80C7-4271-B1F2-41A3C4BE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94B12-39F0-477E-B588-0776C479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0B2EA-F6E0-43D6-8EB3-C075D1AA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2CDD6-80C3-490E-A9BD-4D41F7F0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3DF4-4380-4ED8-9E74-666CCE6F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F1B50-20CC-4AB0-87B3-D63726EE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BFD39-ABFE-4A56-9A24-770849AF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82043-5B31-4F1A-8777-3C78EC62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2E7B8-D918-4DA0-825D-551B2D7D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834DC-B575-4B72-9DCD-99E3523D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40F74-5E94-4791-907B-B328BB17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6C04E-96FB-4E88-B393-2AD15DD3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8DE46-54AE-4CEE-95D1-AF679F72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DAD64-7995-4E5F-AFB0-7947FACF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82817-414F-4109-9DEA-7C73D721D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62B0-DF5C-4277-AD52-6E4524D7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FA398-A202-4D67-BBB2-1BAC8CB7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871F0-5F6E-47F1-AA23-D856A2B4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F1924-2A27-427F-AE18-BF2E4823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0C759-2A1A-47EB-A061-1DB37B2F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3413E-866C-4C93-B34C-07B41422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9A787-85ED-4642-9E72-60ED9751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63ABB-7817-474B-B141-B616F696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026FA-3B03-46AB-8E68-F441E983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632B5-F00F-405B-8399-B55DE69C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8EE24-4924-4971-BC36-5241AAC1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52D9-DB51-4F42-88B4-AC2900F0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0E54B-C4FD-4451-9D59-C7C713EA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15674-4EA8-4323-9690-167E40BF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1F759-6AC0-44B7-B689-9C8B4AC0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B3FF8-AB20-45C1-9C50-2AE6DBC1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97A1B-BD9A-4072-9CBA-CBDB53ED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4695C-D61F-49BA-9542-E6C9042D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9998E-A160-4990-8ED1-DE4BD1F0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0DEAC-AB64-43FB-8AD7-44669267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E30B6-3288-451D-BA6C-9E950DCA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C1CB3-81B0-458C-AA98-F0072977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A329-F55E-4AF4-8F7B-EEA5D8FB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C54CE-F99D-4751-965C-BCD7967B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0C7FE-B9BE-4D5D-A0F8-8260F504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DAB18-6A37-4AD0-A7FC-6FD189C3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FFA33-858E-4CF0-909B-005A7A58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89CAD-C608-4AA5-A76F-F32A81D5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96F6E-D904-4724-92FC-7FE11309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60302-B045-4DA7-B6DA-BBB2CE64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A0BD3-F590-4D6E-AB42-3AD52B08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2556E-CDD5-4558-847A-AB74A2DC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24124-8767-4640-85BF-4C953A97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E289-6535-4AE3-84B4-7BCDC00D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ED3B4-A95C-43D2-A411-AB2744E9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661D1-BD3B-4B72-9864-3740F2B4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99610-F283-48B9-A74E-A575667D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54C89-22AE-4ED8-8A34-6AA5ED27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5D3EC-6CE0-4551-933C-FED119A8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D449B-5981-4A59-BAC9-22A5F312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F9CC5-FD6B-4FD2-A39F-682EC0AC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2FCA2-1AE0-4B5C-A952-951E99C8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54D36-CBCA-4E42-A6A7-86F71242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958CF-C0E3-4F85-BA66-D44405FD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D87B-FE8A-4181-ACAA-E70347DDAE2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5833-8B0E-4150-B4A3-C4F6EB59FA4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AF98-CE54-421C-9916-480046A5323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3540-CAA1-4529-9314-50AFB55F7C2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B899-4695-4BD2-8DA5-79CF1E2F542A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sldNum" idx="4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7CE7-7059-4AA9-B35C-3161D4BF9555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ftr" idx="4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sldNum" idx="4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6CF4-5CFD-40BB-B47C-439A3052477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ftr" idx="4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sldNum" idx="4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DECE-3269-4C20-8B4D-031206AEEC5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ftr" idx="4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5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5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1C06-9093-428F-8AC3-FE02B6171E9B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5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sldNum" idx="5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F7AE-DE12-4996-AA12-3F22580596E5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ftr" idx="5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74A2-3F08-4561-977D-8B376A2FD8C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790F-746B-4BA4-8CEC-F3AC0A4D3A0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58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59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60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773E-3E16-4E86-9833-5DFD6F51601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 type="dt" idx="6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 type="ftr" idx="6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 type="sldNum" idx="6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0FD8-D391-453B-8DE0-A3E1073FBB7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6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6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6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597F-9EDB-4E05-A03C-1C7A27DA86D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6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6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6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8C17-C35E-4E2F-A47C-513440E9ABF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dt" idx="7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ftr" idx="7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 type="sldNum" idx="7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6D97-F7B6-4666-9CCF-031F1CBE4D3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4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1115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8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1119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2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1123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dt" idx="73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ftr" idx="74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 type="sldNum" idx="75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385A-D89A-49F0-86D9-D0F79F331DA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BCEA-CEE7-4BBE-B9E1-B268CD835E3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18BB-A3C4-4942-9E64-E6C6C2E51A4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61CA-438D-4198-B4B9-B1F294D1CFF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1F13-49DA-4A91-8439-92EE585AA06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4AAF-2CDC-4DA6-9428-F79CA2B8F3B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F767-CA97-4729-93EB-E5AADD58B49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EA5F-5B84-4709-9B3A-0D1541AA586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7" name="Title 1" descr=""/>
          <p:cNvPicPr/>
          <p:nvPr/>
        </p:nvPicPr>
        <p:blipFill>
          <a:blip r:embed="rId1"/>
          <a:stretch/>
        </p:blipFill>
        <p:spPr>
          <a:xfrm>
            <a:off x="2206800" y="2225520"/>
            <a:ext cx="4670280" cy="255924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3467160" y="5181120"/>
            <a:ext cx="22096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Kate Bierschwa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69" name="Picture 2" descr="http://www.tsuda.ac.jp/en/img/img_college_top_c.jpg"/>
          <p:cNvPicPr/>
          <p:nvPr/>
        </p:nvPicPr>
        <p:blipFill>
          <a:blip r:embed="rId2"/>
          <a:stretch/>
        </p:blipFill>
        <p:spPr>
          <a:xfrm>
            <a:off x="2743200" y="0"/>
            <a:ext cx="37339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1172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athematics and Technolog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learned how to make formulas in Exce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2" name="Picture 2" descr="http://homepage.cs.uri.edu/tutorials/csc101/pc/excel97/images/excel1.jpg"/>
          <p:cNvPicPr/>
          <p:nvPr/>
        </p:nvPicPr>
        <p:blipFill>
          <a:blip r:embed="rId1"/>
          <a:stretch/>
        </p:blipFill>
        <p:spPr>
          <a:xfrm>
            <a:off x="2514600" y="2895480"/>
            <a:ext cx="380052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ffective Develop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learned more about friendship when I wrote about it, and about my own troub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ecision Mak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y </a:t>
            </a: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hardes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decision was what college to go to, and  wh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though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about  what job I want and colleges  taught it. It was important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1:20Z</dcterms:created>
  <dc:creator>ITSUser</dc:creator>
  <dc:description/>
  <dc:language>en-US</dc:language>
  <cp:lastModifiedBy>ITSUser</cp:lastModifiedBy>
  <dcterms:modified xsi:type="dcterms:W3CDTF">2010-02-10T20:46:47Z</dcterms:modified>
  <cp:revision>6</cp:revision>
  <dc:subject/>
  <dc:title>My college Planning Reflection</dc:title>
</cp:coreProperties>
</file>